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F15C-56AB-481A-B3AD-1534C0EB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43F5-030F-4899-8BCF-8EE277E3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ABC7-61E6-4628-950B-B0AAA2CE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5860-A033-455B-B096-E4D1A53C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7F0F-7A11-48F8-AA98-371B9C65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97D-1D78-4F10-91A4-EFA33505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9893-C115-4F37-A3C6-E2B12BD6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48C6-655F-42EB-9472-7E967616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0F1D-7E4B-44DD-959E-75FFBADF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14AB-45E9-4208-91FB-F392C9CC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C140-3A36-4954-9027-1F999CD9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BA01-DDC3-42E3-804B-5E262159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A16E-4BC1-4280-AE82-0B6C65123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49798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15328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913040" y="228600"/>
            <a:ext cx="53830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32448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2057400" y="1295280"/>
            <a:ext cx="46483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5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447920" y="1447920"/>
            <a:ext cx="63244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Century Gothic"/>
              </a:rPr>
              <a:t>am</a:t>
            </a:r>
            <a:endParaRPr b="0" lang="en-US" sz="25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676520" y="1371600"/>
            <a:ext cx="61722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Century Gothic"/>
              </a:rPr>
              <a:t>the</a:t>
            </a:r>
            <a:endParaRPr b="0" lang="en-US" sz="25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219320" y="1447920"/>
            <a:ext cx="6858000" cy="77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Century Gothic"/>
              </a:rPr>
              <a:t>little</a:t>
            </a:r>
            <a:endParaRPr b="0" lang="en-US" sz="25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401148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60199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6294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2476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2:53:33Z</dcterms:created>
  <dc:creator>Chris Mclemore</dc:creator>
  <dc:description/>
  <dc:language>en-US</dc:language>
  <cp:lastModifiedBy>Help Desk</cp:lastModifiedBy>
  <dcterms:modified xsi:type="dcterms:W3CDTF">2009-09-04T21:40:46Z</dcterms:modified>
  <cp:revision>3</cp:revision>
  <dc:subject/>
  <dc:title>PowerPoint Presentation</dc:title>
</cp:coreProperties>
</file>